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227A-0C70-4B60-8268-EC3BF3390DE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94EA-C33E-4E8D-9D4B-7A30BC30662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BD4B-706E-4F0F-AB58-94A60E0AEA5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1913-48E2-44F4-A015-00333D2C6C0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E130-C5C7-4CFD-97C7-08CDBB12CC1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7AA5-01B3-44C0-9DC4-6173D582A33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5347-DBC0-40C6-9238-4308EB444F6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FBA2-0C70-4A38-963B-29D761050C9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08C7-54A5-48FC-8617-430C9ABD38F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96A3-82B5-4117-BD6C-F70854BFA69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257C-D917-41E6-8C32-EC77AF3261C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6AED-6265-41BE-9FF8-7BB9AA6B0E7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65A3-6E7E-4783-88E6-F79CC61F052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E643-CB96-4126-BCE5-A43A048B3C19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9738-9AEA-492A-AB6C-54DCFD0BCE68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189080"/>
            <a:ext cx="7777080" cy="20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kontroli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alecenia pokontrolne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obre przykłady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Ochrona danych osobowyc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ole tekstowe 2"/>
          <p:cNvSpPr/>
          <p:nvPr/>
        </p:nvSpPr>
        <p:spPr>
          <a:xfrm>
            <a:off x="40788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szkoleniach i przeprowadzonym doradztwie wskazane jest badanie satysfakcji uczestników w formie ank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jrzystość stron internetowych LGD, pozwalające sprawnie uzyskać informacje np. deklaracja członkostwa powinna być od razu widocz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5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Dobre praktyk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ole tekstowe 2"/>
          <p:cNvSpPr/>
          <p:nvPr/>
        </p:nvSpPr>
        <p:spPr>
          <a:xfrm>
            <a:off x="419040" y="1700280"/>
            <a:ext cx="822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jrzyste procedury, kryteria i rejestry interes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chowywanie dokumentów – zabezpieczone dokumen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doczne oznakowanie biura i godzin pracy umieszczone na zewnątrz budyn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telne i przejrzyście prowadzone strony internetowe pozwalające na sprawne uzyskanie inform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Ochrona danych osobowy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2"/>
          <p:cNvSpPr/>
          <p:nvPr/>
        </p:nvSpPr>
        <p:spPr>
          <a:xfrm>
            <a:off x="419040" y="1700280"/>
            <a:ext cx="8221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ażda LGD powinna mieć Politykę bezpieczeństw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stalenie AB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jestr osób upoważnionych do przetwarzania danych osobowy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poważnienia imienne dla pracowników oraz członków Rady do przetwarzania danych osobowy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poważnienie do przetwarzania danych osobowych nie jest jednoznaczne z deklaracją bezstronności i poufności (członkowie Rady i pracownicy LGD winni posiadać upoważnienia do przetwarzania danych oraz podpisywać w/w deklaracj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e z ustawą zabezpieczenie danych osobowych, w  tym właściwe przechowywanie dokumentó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yskiwanie zgody wnioskodawców na przetwarzanie ich danych osobow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76640" y="3716280"/>
            <a:ext cx="33753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Podsumowanie kontrol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 dzień 30.11.2017 r. przeprowadzono i zakończono kontrolę w 8 LGD, pozostałe 8 LGD będą skontrolowane do końca b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edmiot kontroli – Zobowiązania wynikające  z § 5 Umowy Ramowej tj. m.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ziałanie i utrzymanie biura (godziny pracy umieszczon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widocznym miejscu przed biurem oraz na stronie internetowej), zabezpieczenie biura i dokumentów, Polityka bezpieczeństw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acownicy (kwalifikacje,  świadczenie prac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kolenia pracowników i członków rady decyzyjnej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trzymanie i aktualizacja strony internetowe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ezpłatne świadczenie doradztwa (rejestry, ankiety satysfakcj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Podsumowanie kontrol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2"/>
          <p:cNvSpPr/>
          <p:nvPr/>
        </p:nvSpPr>
        <p:spPr>
          <a:xfrm>
            <a:off x="419040" y="1700280"/>
            <a:ext cx="8221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wszechnianie  informacji o zasadach przyznawania pomocy poprzez szkolenia, stronę internetową oraz kontakt telefoniczn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bezpośredni (ankiety, oceny szkoleń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bory (próba losowo wybranych wnioskó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procedur do naboró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regulaminu Rad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regulaminu Biu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atut, członkostwo w LGD – zapewnienie swobodnego dostępu do członkostw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ole tekstowe 2"/>
          <p:cNvSpPr/>
          <p:nvPr/>
        </p:nvSpPr>
        <p:spPr>
          <a:xfrm>
            <a:off x="419040" y="270828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widłowe potwierdzanie za zgodność z oryginałem dokumentów oraz informowanie wnioskodawców o prawidłowym potwierdzaniu za zgodność przez wymienione w Rozporządzeniu podmi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1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twierdzanie za zgodnoś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ole tekstowe 2"/>
          <p:cNvSpPr/>
          <p:nvPr/>
        </p:nvSpPr>
        <p:spPr>
          <a:xfrm>
            <a:off x="40788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widłowe sporządzanie listy operacji wybranych, jeżeli operacje  są zgodne z LSR a nie mieszczą się w limicie winny się znaleźć na liście operacji wybranych z adnotacją „ nie mieści się w limici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5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Listy operac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ole tekstowe 2"/>
          <p:cNvSpPr/>
          <p:nvPr/>
        </p:nvSpPr>
        <p:spPr>
          <a:xfrm>
            <a:off x="43668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zewnictwo w tytułowaniu uchwał – nieprawidłowo zatytułowane np. Uchwala w sprawie wybrania operacji… ,natomiast w treści dokumentu zapis „operacja nie została wybrana do finansowania”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9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ytuły uchwa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ole tekstowe 2"/>
          <p:cNvSpPr/>
          <p:nvPr/>
        </p:nvSpPr>
        <p:spPr>
          <a:xfrm>
            <a:off x="414360" y="2708280"/>
            <a:ext cx="822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telne i przejrzyste sporządzanie rejestru interes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wrócenie uwagi na spójność dokumentów – np. dane z protokołu niezgodne z danymi w uchwał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mułowanie dokumentów w ten sposób aby na ostatniej stronie nie znajdowały się tylko podpi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3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ole tekstowe 2"/>
          <p:cNvSpPr/>
          <p:nvPr/>
        </p:nvSpPr>
        <p:spPr>
          <a:xfrm>
            <a:off x="39528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lan szkoleń – założenia adekwatne do możliwości realiz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ryteria wyboru – powinny być ustalane w sposób zrozumiały, realny i nie budujący wątpliwości z punktu widzenia wnioskodaw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ole tekstowe 2"/>
          <p:cNvSpPr/>
          <p:nvPr/>
        </p:nvSpPr>
        <p:spPr>
          <a:xfrm>
            <a:off x="41904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regulowania dotyczące uzyskania przez dwu lub więcej wnioskodawców identycznej liczby punktów – jeżeli znaczenie ma godzina przyjęcia wniosku – należy wpisać dokładną godzinę przyjęcia wniosku (zdarzały się sytuacje, iż w LGD przyjęto kilka wniosków o dokładnie tej samej godzini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1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3:34Z</dcterms:modified>
  <cp:revision>912</cp:revision>
  <dc:subject/>
  <dc:title>Slajd 1</dc:title>
</cp:coreProperties>
</file>